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32.xml.rels" ContentType="application/vnd.openxmlformats-package.relationships+xml"/>
  <Override PartName="/ppt/slides/_rels/slide21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53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0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137.xml" ContentType="application/vnd.openxmlformats-officedocument.presentationml.slide+xml"/>
  <Override PartName="/ppt/slides/slide222.xml" ContentType="application/vnd.openxmlformats-officedocument.presentationml.slide+xml"/>
  <Override PartName="/ppt/slides/slide138.xml" ContentType="application/vnd.openxmlformats-officedocument.presentationml.slide+xml"/>
  <Override PartName="/ppt/slides/slide223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5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26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27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28.xml" ContentType="application/vnd.openxmlformats-officedocument.presentationml.slide+xml"/>
  <Override PartName="/ppt/slides/slide229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7.xml" ContentType="application/vnd.openxmlformats-officedocument.presentationml.slide+xml"/>
  <Override PartName="/ppt/slides/slide119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67B-E461-4ECE-84CD-BAD17812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0D5-6CE9-4E04-BE0C-150075D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FED-8CDD-41E2-8B5A-DD3CBCD8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BFE-3A13-4473-953D-884ECD84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B56-EE93-451C-931F-64D08C9B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043-1049-4D3D-884A-E124CEFF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D46-6042-41EE-B3A4-60D516AE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0A8-CFCE-4FC6-A8C2-74532D3E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31C-7998-48E4-BEDE-C7DE1CDB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557-0E42-4567-B7FB-ED54DD2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021-E3BE-4668-A3CC-49DEB0F9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16C-3FF3-486E-BA01-1098427F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9E4D-1569-49EE-B369-0F1A5451F19A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r-CS" sz="4800" spc="-1" strike="noStrike">
                <a:solidFill>
                  <a:srgbClr val="ea1a1a"/>
                </a:solidFill>
                <a:latin typeface="Arial"/>
              </a:rPr>
              <a:t>ФАКТОРИ КОЈИ УТИЧУ НА ЗДРАВЉ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гујева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звој биотехнологије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dous Huxley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и нови св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67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зија живота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5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ма ни 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 рат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људи се зачну у епрувет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рађају у лаборатор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ћни 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nome Sequencing Consortium, 2001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јашњена структура генома ч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пулације у ге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ертил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сихотропне супстанц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ез нежељених дејста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р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берална демократ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рожена могућност биотехнолог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г живот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 смањеним менталним капацитет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лобађање од депреси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 истовремено и од креативности и луд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кови који замагљу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у између оног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 остварујемо свој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собностима и услед хемика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да настаје ДМ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04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и или апсолутни недостатак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рециј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инсул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/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и или апсолутни недостатак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еловањ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инсу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јагноза постављена на основу следећих критерију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икемија наш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у било ком случајном узорку крви ≥ 11,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карактеристичних симптома (полиурија, полидипсија, редукција телесне ма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изик од настанка КВБ, посебно ИБ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н код оболелих од ДМ тип1 и ДМ тип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са ДМ имају 3-7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&gt;ризик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. са ДМ имају 2-3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&gt;ризик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5-80% одраслих са ДМ  умре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5% дијабетичара умрлих од КВБ, умре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ијабетес мели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344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 ризик од КВБ и субклинички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 атеросклерозе имају особе с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олеранцијом на глукозу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кључујући 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повишену гликемију наш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мањену толеранцију на глук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инсулинску резистен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М пра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глицерида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и ризика за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чка не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алних контрацеп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сихосоцијал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Наследни фактори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ктор ризика за КВ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и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тивна породична анамнеза за ИБС (више оболелих чланова првог степена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 повећан ризик за ИБС у м. и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ИБС имају особе чији су првостепени рођаци имали ИБС или друго атеросклеротично обољење  у млађем узрасту (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55.г.;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6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Наследни фактори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ђу жртвама ИМ чији су првостепени рођаци имали ИБС пре 65.г. живота, већи је проценат жена: 76%-6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ледне дислипидемије 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Гојазност</a:t>
            </a: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 1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ставља прекомерно нагомилавање масног ткива у т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ледица је превеликог енергетског у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002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епен гојаз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процењује на основу индекса телесне масе (Б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М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≥3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ојазна осо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-29,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телесна м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ојазност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,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-29,9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х већи ризик од ИБС у односу на оне са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, 40-65г.,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-2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а 72% већи ризик да добију фаталну или нефаталну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азвој биотехнологије 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и је пренатални скринин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 побачајем 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плицитним исход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а фаза још раније започе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ре еуген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тј. "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прављ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људског ро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з обзира на интере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кад рођ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фект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це да се рад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вом-такв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родно семе заменити генетски модификова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бдоминални тип гојазности 4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трибуција масти у организму важан фактор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бдоминални (андроидни, централни) тип гојазн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 ризик за ИБС у односу на оне са гиноидним или периферним типом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дређивање абдоминалног типа гојазности ?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7559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 обима струка и кукова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мо обим ст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ви параметри високо корелирају са ризиком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оцена ризика од КВБ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јазно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ип гојаз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већан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ци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94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е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ако повећан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0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е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8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дређивање абдоминалног типа гојазности ? 7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им струка високо корелира са ризиком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ја телесне масе доводи до снижавања вре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триглицерида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К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е резистенције, хиперглик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и повезаност измеђ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мањене толеранције на глукоз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дијабетеса тип 2 и хиперт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ојазност 8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7643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зам масти поремећ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риглице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Физичка не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води до повећања ризика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са седентарним начином живота имају за 20-50% већи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Физичка не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хабилитација особа са ИМ доводи до редуковања смртности од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свих узрока за 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БС за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изичка неактивнос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дентарни начин живота (без физичке актив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мерена физичка активност у средњем животном добу смањује морталитет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Физичка активност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ава настајање прекомерне телесне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 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вредности укупног 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нивоа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ниво 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Физичка активност,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дијабетичара доводи до повећања инсулинске осетљивости и регулације нивоа шећер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Физичка активност,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7993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инсулинску осетљивост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регулација нивоа шећер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иже психофизичку конди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иже способност одупирања стр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Неадекватна исх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лик унос масти и засићених масних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и однос између уноса полинезасићених и засићених масних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развој атеросклерозе и КВБ утич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средн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липопротеинемија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ње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тиче на 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концентрациј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и ризик од К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 из х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сићене масне киселине (посебно оне са 12 угљеникових ато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лик унос укупних 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штитни ефека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 сиромашна засићеним м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 са пуно воћа и повр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сићене масне киселине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(омега 3 и 6 масне киселин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тективно делују н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агрегацију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у ризик од изненадне кардијалне см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у ризик од арит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рансмасне кисели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ијају се од незасићених масних киселина процесом хидроген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вред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вред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345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отеини анимал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морталитет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Рафинисане цереа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ло воћа и повр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ризик умирања и оболевања од КВ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држе дијететска влакна, антиоксидансе (А,Ц,Е витами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лавоноиди), незасићене масне киселине, калиј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дификација липопротеина (путем оксидације) у зидовима артерија крвних судова доприноси стварању атеросклеротичног п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цијално-економск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иниоци везани за понаш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 начин жив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Фактори ризика везани за адиктив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супстанције и сексуално 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ктори ризика претежно веза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 животну и радну сред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Фактори ризика претежно везани за исхран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 физичку а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 Насле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тходна бол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л и узра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стали чини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549360"/>
            <a:ext cx="8209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комерна употреб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0г. етанола дневно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 чашице ракије, 3 чаше вина или 3 флаше пи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од К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аст крвног притиск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(?), триглицерида, фибриногена, агрегације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лкохолна кардиоми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66978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мере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иј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мањује ризик од ИБ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-вино (умерено пије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тектив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ефекат флавоно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снажнији антиоксид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ите од оксидаци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ечавају агрегацију тромб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ују процес запа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бољшавају васкуларну функ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у као фитоестрог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ва плазм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Орални контрацепти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тешки пушачи+О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0х већи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5г.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и пушачи+ОК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ИБ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20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ладе жене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виши ниво липида у серу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виши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слабија толеранција на глук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сихосоцијални факто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ип 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х већи ризик од фаталне и нефаталне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рактерише их енергичност, предузимљивост, одговорност, више обавеза него вр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т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екуларни процес реаговања организ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еуроендокр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еур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оцијална изолов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Љут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Лош социјално-економски стат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Симптоми депрес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рије особе имају највећи скор за депреси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40% већи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60% већи ризик од уми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шија прогноза код особа са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имптоми депрес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 ризика 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танак поновног инфар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шију прогнозу већ насталог инфар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танак КВБ код здравих ос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Метаболички синд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стовремено присуство бар 3 од 5 метаболичких поремећа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Артеријска хипертен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ст андроидн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ДМ тип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Хипертриглицерид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нижен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шт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инсулинској резистен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7553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ромашт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подразумева лоше социјално-економско стање, незапосленост, низак образовни ниво и незадовољавајући положај пород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 13 детерминанти или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предуслова здр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чија су инверзна слика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фактори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за оштећење здравља, скоро су сви директно или индирект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зани за социјално-економски положај, тј. сиромаш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абилан екосисте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рживо коришћење ресурса - угоржавају глобализација, трка за просперитетом и 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95280" y="33336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оцијално- економски положај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Инфе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узрочно повезан са КВБ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е инфекције повећавају ризик од ИБ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hlаmudophila pneumonia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2-4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 већи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итомегалови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.pyl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eptococcus sang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phyromonas gingiv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УСЛОВНИ фактори (МАРКЕРИ, показатељи)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у вези са КВБ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риглицери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олипопротеин А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(apo A-I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олипопротеин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po-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липопротеина (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суство маркера инфламације или инфекције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фибрин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Хипертриглицеридем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(маркер, показатељ) риз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ћен ниски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ом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овећан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концентрације триглицерида за 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м/л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ораст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КВБ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32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д м. и за 76% код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Жене пре менопаузе имају ниже триглицериде него м. и ж. у постменопау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Аполипопротеин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A-I (apo A-I)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и аполипопротеин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apo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з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по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A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о протективно дејство на развој ИБ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љи маркер ризика од КВБ нег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на протеинска компонента свих липо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ерогени липопротеини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ВЛДЛ-ц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триглицериди) садрже један молекул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аку партикулу липопротеина долази по један молекул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љи показатељ ризика од атеросклерозе, односно КВБ нег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Липопротеин (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еза кауза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а липопротеина  чији је липидски део по саставу идентичан с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ипопротеин (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7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ризик од ИБС и када се искључи утицај друг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жнији фактор ризика за 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расту после менопаузе (као и триглицерид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укупног холестеро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- реактивни протеин</a:t>
            </a: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(маркер, показатељ)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еросклероза је и запаљенски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ски маркер запаљењ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ерумски амилоид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циток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нтерлеукин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растворљив интрацелуларни адхезиони молекул типа 1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CAM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-реактивни протеин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за измеђ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ризика 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ненадне смрт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риферних обољења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-реактивни протеин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 корелира 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лом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са повишеним вредностим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ју већи ризик од И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дексом телесне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ом 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 корелира с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олестер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Фибриног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чајан фактор ризика з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тивно корелира 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олом (виши у ж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уше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динама ста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шћ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потребом 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стменопау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оцијално- економски положај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осталих 10 предуслова здравља чине: становање, образовање, социјална сигурност, д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штвени односи, храна, доходак, оспособљавање жена, социјална правда, поштовање људских права и правед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Хомоцисте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дукт метаболизма метио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ханизам деловања није поз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тамин Б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Б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фолна киселина снижавају ниво 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Хомоцисте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хомоцистеина у плазми (удружен са пушењем, хипертензијом и хипертриглицеридемијом) су фактори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овина ХХ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еросклероза 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генеративна и иреверзибилна последица старења коју је немогуће избећ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превенције ограни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четак Х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ција и деловање на факторе ризика може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пори прогресију атероскле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могући делимично повлачење већ насталих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 настанак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веде до клиничког побољшања већ настал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ињенице на којима се заснива активан приступ превенцији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совна појава КВБ чврсто повезана с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ачином живот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акторима ризика који се могу модифико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егавање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зразито снижење морталитета и морбидитета код особа са препознатим или непрепознатим КВ обољ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ПРИМОРДИЈАЛНА превенц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авање настанка и успостављања (срединских, економских, социјалних и бихевиоралних) услова за које се зна да повећавају ризик оболе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е примењуј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је инциденција ниска или скоро одсу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лативно скоро дефинисан тер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зултат нових сазнања о епидемиологији КВ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Б ређе у Јапану и К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 исхрани мање засићених масти, 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велика учесталост других фактора ризика      (пушење, хипертенз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Б чешће у Фин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схрана богата мастима животињск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и се на припаднике популационих група које још нису изложене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и се на могућност деловања на гене (вид најраније примордијалне превенц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5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редини где не постоје фактори ризика за КВБ (неправилна исхрана) онемогућити њихово уно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ПРИМАРНА 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њење инциденциј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остварити ци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овођење поступака да до болести не дођ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бегавање или модификација фактора ризика који доводе до КВБ (у срединама у којима су фактори ризика већ присут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ечавање излагања појединаца различитим фактор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ај појединих фактора завис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 тог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а ли се посмат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рталитет или неки суптилнији показате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 састава поп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лањ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 умирање у свету 1990. год. највећи значај имал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малнутри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11,7% свих узрока смрти) 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дув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6,0%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лањ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 DALI, у врху листе малнутриција (15,9%) и недостаци у водоснабдевању, санитарним условима, личној и кућној хигијени (6,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ступи у примарној превенц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ПОПУЛАЦИО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приступ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ијентација на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пшту популаци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ИНДИВИДУАЛ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ијентација на особе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под високим риз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Популациони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н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чина живот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модификација фактора ризика) великог броја особа у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тори који се могу модификовати популационим приступ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правилна исх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зичка неак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ључне тачке у примарној превенцији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ријентацијом на општу популацију (популацио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дравствено образо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мена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чина живот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рипадника целе попул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ријентација на општу популацију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(популацио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 фундаменталног значаја за смањење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ајвећи број оболелих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од КВБ потиче и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велике груп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људи код којих је КП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благо повише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а не из мале групе са врло високим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Индивидуални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дентификациј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јединаца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исоки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ом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дентификација свих хипертонич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е 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мањење изложе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појединаца са високим ризиком)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лечење хипертонич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жна улог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лекара у ПЗ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ријентација на особе под високим ризиком (индивидуал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4000" y="2924280"/>
            <a:ext cx="79311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ериорнији приступ у погледу резул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 Оријентација на особе под високим ризиком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цена индивидуалног ризик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ријентација на особе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еликим риз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аблиц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одређивање профила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 ризика у наредних 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 Оријентација на особе под високим ризиком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цена индивидуалног ризик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ероватноћа настанка)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аблиц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офила фактора риз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ње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апсолутног 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вероватноћа настанка КВБ у одређеном периоду) сваке осо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Оријентација на особе под високим ризиком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цена индивидуалног ризика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блице у обзир узим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ки стат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олни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нос укупног 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аблице за процену индивидуалног ризика од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ју приближне вредности будућег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тачне године старости, већ деце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имају у обзир да ли је неко пушач или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дужину пушачког ст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број попушених цига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2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мена методског приступа, под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директно неупоредивим са редоследом фактора ризика 2000.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цена индивидуалног ризика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јекција ризика неке особе до 60.г.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лада особа (20-30г.) која има НИЖИ апсолутни ризик, али лош профил ризика (пуши) у старијем узрасту имаће висок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штина коришћења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проценити сопствени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почети са применом мера п.п.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4716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евенција фактора ризика (Европске препоруке) обухв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мена понашања (начина живо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ловање на остале факторе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ко се спроводи превенција фактора ризика (Европске препоруке)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81471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римарној превен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екундарној превенцији (код особа које већ имају КВ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 фактора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ширене на све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шу укупни ризик од настанка фаталног КВ догађаја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е са К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асимптомат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 фактора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и ризика у следећих 10г. дати су по категори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у потребне интензивније нарочито медикаментозне ме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није, гранична вредност (ранг)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, гранична вредност (ризик) 5% и ви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=превенција фактора риз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а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разумева деловање на факторе ризика који су повезани са начином живота тј. понаша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ична је за пацијенте кој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мају КВ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необолеле особ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зложене већем бро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а ризика (неадекватна исхрана, пушење, седентарни начин жив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фактора ризик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– европске препоруке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мена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станак 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а исхр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Деловање на остал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комерна телесна маса и 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пиди у плаз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чк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982.г. Експертска група СЗО за КВБ препоручила и секундарну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 ме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ти рецидиве неких КВБ (И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ти прогресију болести код особа које већ имају клинички развијен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зити морталитет код особа које имају клинички развијен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мерена на смањивање изложености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мерена на терапијску заштиту коронарних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а разлика између секундарне превенције и примарне превенције са оријентацијом на особе под високим ризиком (клинички видљива атеросклеротична болест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исок ризик од развоја коронарног догађа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арна превенција значајн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692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дикаментн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крининг блиских рођ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 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Медикаментна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терапија 1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терапиј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терапиј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вишених лип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спири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све пацијенте са клинички испољеном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блокатори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за оне који су имали ИМ или дисфункцију леве коморе усле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дикаментна терапија 2/2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Ц инхибитори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оне који имају симптоме и знаке дисфункције леве коморе услед ИБС и/или 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тикоагуланси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за оне са ИБС који имају повећан ризик од тромбоембо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тат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према америчким препорукама обавезан су део секундарне превен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значај у смањењу сужења крвног 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мењање композиције атеросклеротичног плака(мања склоност ка руптурама и ерозиј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Скрининг блиских рођака 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998.г., Европске препору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но откривање болести у асимптоматској ф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ривање фактора ризика које је могуће модифико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710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откривање асимптоматске коронарне бол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Г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оптерећ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тале методе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цинтиграфија, холтер ЕКГ) се НЕ препоруч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146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рано откривање фактора риз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совни скрининг: НЕ препоручује 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ортунистички скрининг: Хипертензију могуће открити (рутинско мерење КП особама које се јаве лекару ПЗ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риодични скрининг: холестерол у плазми у 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5г. и 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4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крининг модификујућих фактора ризика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рано откривање фактора ризика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блиским сродницима са раном ИБС (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5г, 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65г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ећи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обе са блиским сродницима који имају хиперхолестеролемију или наследну дислипидемију →већи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ЦЕРЕБРОВАСКУЛАР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Ц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тиологија ЦВ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мплек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врсто повезана са узроцима других болести циркулаторн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дентификован велики број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тиолошка разноврсност поремећаја здравља ов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фактора ризика за настанак Ц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 Групе  фактора подложне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елимично подложни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еподложни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Група биолошких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актори везани за начин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Генет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редин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настанак Ц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елују удруж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еђусобно  се условљав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 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ea1a1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ормирати профил фактора ризика за поједине типове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линичка хетерогеност МУ указује на различит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удружена са свим типовим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лечење хипертензије води консеквентном смањењ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циден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 исхемијског и хеморагијског 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зумирање алкохола удружено са овим типом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Атеросклер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тј. фактори који је условљава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исхемијског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теросклероза фаворизује развој коронарне боле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инфаркт миокарда или атријална фибрилациј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(главни узроци кардиоемболијског 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е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раст концентрације фибриногена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пидног статуса-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исхемијск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ЦВБ који нису подложни модификова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родична преди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ип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ност појединим етничк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ЦВБ који нису подложни модификова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1280" y="233172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дентификовање особа са овим карактеристикама омогућа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кривање популације под риз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дузимање мера које имају за циљ да модификују оне факторе који су подложни проме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 за С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утозомно доминантно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асл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а могућношћу антицип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исока 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стал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утац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гена за алфа 1-антитрипсин код особа са 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тудије близанаца(генетски фактори и МУ)-преваленција МУ код монозиготних близанаца 5x виша у односу на дизигот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етаболички поремећаји значајни за етиологију ЦВБ су генетски условљ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спективним студијама препозната као један од најзначајнијих фактора ризика за Ц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истолни,дијастолни ил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редње вредн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корелација са ризиком и од исхемијског и од хеморагијск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4362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лација хипертензија-Ц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ик од МУ удвостручава се с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дијастолног крвног притиска за сваких 7,5-10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рстина ове асоцијације опада са узра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релација хипертензија- ризик од М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изик од МУ између најнижег и највишег квантила дијастолног крвног притиска 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0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млађи од 4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5x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45-6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x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старији од 6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оловано повећањ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ол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крвног притис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x повећава ризик к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5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У најчешће код особа са "умерено" повишеним крвним притиском у средњем и старијем животном д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4 од 5 особа овог узраста не знају да имају хипертензију, или је не контролишу, или је не ле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ел здравља попул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дравствено стање у заједни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ују два чинио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фордски уџбеник народног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 расположивог новца 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 његове распо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омедицински моде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 на траг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узроц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а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нивоу поједи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гових орг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ња овог мо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остављање улог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родноздравствених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ра и друштвених реформ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а глобализа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значаја ангажо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штвене заједниц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решавању здравствених пи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50752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 26 водећих фактора ризика за оптерећење болешћу у развијеним земљама већина би могла да се припише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онаш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вик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чину 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укључујући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рофесионалну изложе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тензија је фр. за обољења и стања која доприносе појави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теросклер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повећање дебљине интим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по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ање стенозе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 ↑риз. ИМ 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еросклеротични плакови → емболизација крвних судов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↑нехемо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гијск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ИМ→тромби у левој 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чаној комори →извор ембол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актори ризика заТИА идентични као за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ИА се јавља код 25-50% особа пре појаве атеротромботичн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обе које су имале ТИА имају 7x већи ризик од МУ у дносу на оне без Т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изик од МУ највећи непосредно после Т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олест срца као фр. за МУ(ИМ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x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ризик од развоја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фибрилација преткомо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обољења срчаних залистак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лести коронарних артерија, застојна срчана инсуфицијенциј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ипертрофија леве коморе, пролапс митралних валв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ибрил. претк. 5x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↑ризик од кардиоембо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јског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изик расте за 5%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одишње;старија животна доб, хипертензиј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Д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и срчана инсуфицијенција увећавају овај риз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Болести изазване биолошким агенс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уматска грозниц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алв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арне мане → емболизација крвних судов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меричка трипанозомијаз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(Шагасова болест)- 15 милиона оболелих 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.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мер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ење фр. за све типове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дстиче тромботичку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МУ зависи од броја попуше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цигар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МУ до 6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у односу на непуш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доминантан фр. за САХ код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узра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има значајан утицај на чврстину повеза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ај пасивног 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ајан фр. за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лује независно у односу на друг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ате болести циркула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говоран за 7% смрти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МУ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болелих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са интолеранцијом  глук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свих типова МУ: 1,8 код ж. и 3,0 код м. облелих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ијабетес  фр. за исхемијски, али не за Х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гликемија и хиперинсулинемија убрзавају  атеросклеротични проц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инеарна повезаност ризика од МУ и нивоа глукозе или инсулина у крв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 постоје докази да редукција нивоа глукозе у крви доводи до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↓ ризика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Веза АПОЕ 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лиморфизам гена за АП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друженост присуства епсилон 2 и епсилон 4 алела АПОЕ са високим нивоом укупног холестерола и ЛДЛ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1" lang="sr-R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псилон 3 алел АП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силон 2 и 4 АПОЕ носилаца чешће тромбоемболијски, али и хеморагијски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ачина повезаности расте са узра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је запажена у јапанској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омоцистеин у серуму и плазми и М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зитивна асоциј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иолошки механизми који ову удруженост објашњава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ксидација ЛДЛ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иректно токс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о деј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обе са високим ризиком од МУ имају специфични генетски профи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ентификовати особе с позитивним генетским марке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л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ти п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так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дификовати фр. подложне проме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ломорфизам гена за ензиме (ангиотензин-конвертујући ензим, метилен-тетрахидрофолат редуктаза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лиморфизам гена за фибриноге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ебно се издваја првих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који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посматрано за оба пола :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уван, крвни притисак, алкохол, холестерол, телесна маса, недовољан унос воћа и поврћа и физичка неактив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ри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њима формално спадају у тзв. физиолошке или метаболичке факторе ризика, али су и они пресудно од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и људским понашањем и подложни су ефикасним мерама примарне прев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Фактори одговорни за коагулацију кр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фибриног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плазминоген активатор инхибитор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ткивни плазминоген актив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тичу на агрегацију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тичу на вискозитет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врсто повезани са настајањем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Алкохол и Х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кутни и хронични утицај на 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тективни ефекат алкохола ако се не конзуми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 пића 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тективно деловање 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"Неми" 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3640" y="1530000"/>
            <a:ext cx="8507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езависни фр. за неми исхемијски инфаркт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хипертензија,пушење, низак ниво ХДЛ холестерола, повишена активност фактора коагулације VIII, висок ниво хомоцистеина, хиперкоагуабилна стања и хемостатски фактори, генетски маркери(фактор V Leiden, протромбин 20210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лел и АП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Ц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0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ентивне ме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део оболевања и умирања од ЦВБ 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 бити спреч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јације у учесталости болести у времену и простору између земаља, као и унутар земљ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МУ није непроменљ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ије миграната: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 које су промениле место боравка "пролагођавају"се ризику земље 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ћ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дијент ризика за поједине факторе: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вни притисак пушење,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домизоване контр. студиј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а од МУ последица редукције најважнијих срединских 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иступи у превенцији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амењен особама са високим ризиком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редуковати утицај најважнијих ф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опулацио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ИЉ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нтервенцијама смањити утицај ф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оузов превентивни парадок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фекат превентивних мера од велике користи за популацију, релативно мали за поједи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фектниј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 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јз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чајнији и најконзистентнији фр. за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 и контрола хипертензије има централно место на свим нивоима пре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липидемиј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глукозе, пу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 има релативно мање ефекте него код коронар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ЦВБ 1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кушаји да 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спори и одложи развој хипертензије у најранијим периодима живота (детињство, адолесценција и млађе адултно доб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звију навике које фаворизиј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изичку активност и сп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схрану са мало соли а богату калијум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рба против пушења и ексцесивног конзумирања алкох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 ЦВБ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2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дравствено просвећив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једна од најважнијих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оди модификацији фр.везаних за стил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МУ 3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руцијални значај у примарној превенцији М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но откривање хиперт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омптно и ефективно лечење хипертензиј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медикаментозно, редукција уноса соли и масти анималног порек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схрани, редукција уноса алкохола и дувана и контро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4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рвни притисак за општу популациј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птим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ци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20/80ммХ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и ци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40/90ммХ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нтихипертензивни лекови  редукују ризик од првог МУ за 38% међу леченим особ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Ефекат антихипертензива у сек. превенцији МУ н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5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ноги фактори ризика се јављају 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удруже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како на нивоу појединца, тако и на нивоу популац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ада су сви мање-више условљени понашањем и начином живота, то груписање их дели у три груп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5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вентивни програми за престанак пушења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аветовалишта за одвик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мовисање предности живљења без дув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јачи доказ за корист од престанка пушења: код особа које су престале да пуш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од МУ се изједначава са непушачима током 5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МУ 6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тини у превен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тективни ефекат у превенцији фаталног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начај у превенцији свих облика 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ебно код особа које имају и коронарну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нижавају ЛДЛ 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билизију вулнерабилне атеросклеротичне плак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прављају мождану циркул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7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меричко удружење за срце препоручу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дукацију становништва о праћењу липидног стат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одификацију исхране у зависности од поремећаја липидних фракција у т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јању од 6 месе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ришћење лекова уколико је ЛДЛ холестеро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30мг/д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8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8920" y="1789200"/>
            <a:ext cx="853416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схрана богата свежим воћем и поврћем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довним оброцима или између њих унети бар 5 "порција" воћа и/или поврћа 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гуларна физичка активност(минимум 30 мин./дневно умерена или интензивна физичка активно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нзумирање алкохолних пића свести на 2 дневно за м. и 1 за 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9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прављање гликорегу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тро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трола инсулинске ре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ткрити и лечити хипертензију код особа са дијабетесом (тип 1 и тип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ТИ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реверзибилних исхемијских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стања која претходе комплетном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нтитромботичка терапија код ТИА у периоду који је краћи од 12ч.пос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почетка симпт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аротидна е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ртеректом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висок степен стенозе каротидних артерија  тј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70%према ангиографском налазу) отклања ризик за наредних неколико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фикасност промптног л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чења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вези са организацијом здравствене 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ање јединица за МУ (мултидисциплинарни приступ, лечење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смртност од МУ током прве године после атака смањује се за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Ц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29840" y="148392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дразумева рехабилитацију после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И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прављање покретљивости до максимално могућег ниво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говорне 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сихолош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оцијалн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е квалитета живота болесника и његове поро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зазови за 21. 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већање преваленције Ц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рење поп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грес у лечењу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грес у другим видовима здравствене заштите и социјалне подрш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ад летал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ма превенције епидемиј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вљена под контролу(Јап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од МУ и даље вис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од МУ и даље в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зазови за 21.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спешна апликација постојећег знања о етиологиј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дентификација нов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светљавање генетске подложности домаћина за настанак хиперт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светљавање генетске подложности за настанак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6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везани за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адиктивн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супстанције и сексуално понаш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животну и радну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сре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исхрану и физичку активност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8040"/>
            <a:ext cx="807552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и јака повезаност изм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коришћења дувана, алкохола и нарко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потреба алкохола је у чврстој вези са ризичним сексуалним односима и сексуалним злостављањем деце, као и повред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61880" y="115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адиктивне супстанције и сексуално 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06520" y="755640"/>
          <a:ext cx="8229600" cy="5857920"/>
        </p:xfrm>
        <a:graphic>
          <a:graphicData uri="http://schemas.openxmlformats.org/drawingml/2006/table">
            <a:tbl>
              <a:tblPr/>
              <a:tblGrid>
                <a:gridCol w="2601720"/>
                <a:gridCol w="5627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плућа, горњих аерогених и дигестивних путева, многи други малигноми, ХОБП, др. респираторне и све васкуларне бол., др. мед. узроци болест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0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КОХ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, ДМ, рак јетре, уста, орофаринкса, дојке и езофагуса, други малигноми, цироза јетре, епилепсија, хронична алкохолна интоксикација, депресија, намерне и ненамерне пов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МА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,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дозирање, хронична интоксикација, самоубиство, повреде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ЧАН СЕКСУАЛНИ ОД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лнопреносиве инфекције, рак грлића матер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СУАЛНО ЗЛОСТАВЉАЊЕ ДЕ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ресија, панична стања, алкохолизам, наркоманија, посттрауматски стресни поремећај, самоубиство у одрасло д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СУСТВО КОНТРАЦЕП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левање и умирање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к најсмртоносније епидемије мо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ог д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јзначајнији  појединачни узрок превременог умирања у развијеном све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д преко 4000 хемијских супстанција у дуванском диму, неке попут никотина, оштећују крвне судове, док друге, као што су катрани, имају утицаја на канцерогене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2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срединама с вишедеценијском навиком пушења, оно учествује у структури умирања средовечних особа (35-69 година) са 90% за рак плућа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5-20% за остале малигноме, 75% за хронични бронхитис и емфизем и 25% з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3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више се пуши у Русији (скоро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тановништ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а најмање на Бахамима (око 1/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матрано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о по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предњаче мушкарци у Ј. Кореји (68%) и жене у Данској (37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4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ад учесталости пушења у цивилизованом свету стрмији је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тако да је у низу западних земаља однос 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 пушача исти (Данска) или је, као у Шведској, више никотин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зависника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ж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24%:22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а изузетком Данске и Норвешке, где пуши више од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пулације, у остатку развијеног света преваленција пушења је ниж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ларација из Џакар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1977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ин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терминанти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ми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тано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бразо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оцијална сигур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руштвени одно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х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оход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способљавање ж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табилан екосист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држиво коришћање ресур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оцијална прав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оштовање људских пр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праве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детерминан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дравља или предуслова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 пут оболев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ив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пособности и умир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5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а би се ризик бившег пушача потпуно изједначио с ризиком непушача потребно је да про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е 20 година за рак плућа, 15 година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БС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(мада се ризик пушача преполовљује после само годину дана непушења) и 5-15 година за апоплекси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лкох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 највећи утицај на структуру DALI-ја мушкараца у развијеном свету а, када се посматрају оба пола,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м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ча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 настанак преко 60 врста болести и повреда, а под од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им условима може да има и извесне корисне еф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погубнија дејства испољавају се оштећењима ЦНС и повредама, у целини узев његов ефекат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исте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светским размерама "нето ефекат" алкохола (разлика из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њиме спречених и изазваних  смрти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животну и радну сред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омена кл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 глобални феномен, али је лакше суочити се с њеним последицама у развијеним сред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тали фактори ризика из ове груп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 имају, у мањој или већој мери, шири значај, с тим што сви, без изузетка, много већи проблем представљају у неразвијеним деловима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животну и радну сред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6520" y="755640"/>
          <a:ext cx="8229600" cy="586116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оженост на радном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намерне повре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агање оло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Б, блага ментална ретард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бано аерозага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услед комбинованих РЕС и КВ узрока одраслих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0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к плућа,умирање дец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след акутних РЕС инфе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ђена вода, низак санитарни ни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лни синд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. излож. канцероген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укемија, рак плућа, мезотели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ђење ваздуха на рад.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П, аст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а на радном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итак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чврстих горива у кућ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е инфекције доњих РЕС путева деце &lt;5 г., ХОБП, рак плућа (уга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гономски стрес на рад.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 у леђ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ње ињекциј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е инфекције које изазивају ХБВ, ХЦВ и Х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на кл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, повреде услед поплава, маларија, малнутриција; денга, умирање од КВБ, ефекти везани за кретање попул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исхрану и физичку активност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претежно везани за исхрану и физичку 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храњеност и недостаци витамина А, гвожђа и ци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о превалентни у сиромашним земљ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о погађају исте, друштвено депривиса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и ризика везани за болести обиља (седентарни начин живота и неодговарајућа, преобилна или неадекватна исхра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ромашне зем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емље развијеног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исхрану и физичку активност 1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6520" y="755640"/>
          <a:ext cx="8229600" cy="542592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Неухрањеност мајке и дет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 гвожђ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мија и њене секвеле (укључујући конгитивна оштећења, мартенални и перинатални М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храње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и оболевање од дијареје, маларије, малих богиња и пнеумоније итд., перинатална стања услед неухрањености мај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ци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, пнеумонија, малар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 витамина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од дијареје, малих бигиња, маларије и др. инф. бол. (дец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5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), оболевање од маларије  (дец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5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), умирање трудница, секвеле недостатака овог витамина (све узр. г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исхрану и физичку активност 2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6520" y="755640"/>
          <a:ext cx="8229600" cy="521172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Остали фактори везани за исхрану и физичку акти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крвни притис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 и др. болести ср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ниво холестер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; др. болести ср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а телесна м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 и др. болести срца, дијабетес, остеоартритис, рак ендометријума и колона, постменопаузални рак дој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вољан унос воћа и повр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рак колона и ректума, желуца, плућа и езофагу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а неакти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рак дојке и колона, дијабетес; траума услед пада и остеопороза, остеоартритис, бол у леђима, рак простате и ректу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 истих особа симултана појава низа фактора ризика КВ и других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штина патогенетског механиз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а резистенција мускулатуре (смањена осетљивост ћелија на деловање инсу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а резистенција мускулатуре је фенотипска карактеристика везана за тзв. "штедљиви"  генотип који је прачовеку омогућавао очување мишићне масе или конзервацију енер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средине, пре свега гојазност и седентарни начин живота, уз дужи људски век учинили да еволуциона предност постане "важан узрок ... болести западне цивилизациј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нтификован рецептор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AP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чија деактивација условљена гојазношћу, иницира инсулинску резистенцију и развој метаболичког синдрома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тиологија поремећаја здр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ГЛОБАЛ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грожавају опстанак човека на плане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ГРУПНИ , ПОЈЕДИНАЧНИ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ци који погађ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пулационе груп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поједи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ажност некретања и телесне масе је у стварању 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culusa vitiosusa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ећа телесна маса → већа инсулинска резистенција → већа секреција инсулина → већа вероватноћа настанка метаболичког синдрома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умевање тог патогенетског механизма је и путоказ за превентивну акц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постоји строго дефинисана листа елемената који чине метаболички синдром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"Смртоносни квартет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јазност централног 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емећај толеранције глик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риглицери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бинација инсулинске резистенције и компензаторне хиперинсулин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ена толеранција гликозе (укључујући тип 2 или инсулин независни Д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ални тип гоја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липидемија тј. повишене концентрације "штетног" холестеро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DL-C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често уз смањење димензије његових партикула, повишене концентрације триглицерида, ниске концентрације "корисног" холестерола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DL-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урик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фибринолиза (повишене концентрације фибриногена и инхибитора плазминогенског активатора типа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дени поремећаји се не јављају увек и код свих испитаника са метаболичким синдромом х, али је њихова удружена учесталост знатно већа него што би се очеки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дијагнозу метаболичког синдрома х неопходно присуство бар три знака од следећих тј. критеријуми дефинисаног МСХ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на телесна маса (обим струка већи од 102цм за мушкарце и 88цм за же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во серумских триглицерид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≥150мг/дл (1,69ммол/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во "корисног"холестерол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DL-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40мг/дл (1,04ммол/л) за мушкарце и 50мг/дл (1,29ммол/л) за ж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вни притисак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≥130/85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во серумске гликозе (наште) ≥ 110мг/дл (6,1ммол/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а МСХ (дефинисаног благим критеријумима) достиже 32% међу свим одраслим Американцима мексичк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ажно са становишта унапређења здравља и превенције болести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и образац понашања и стил живота удружени са већином водећ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и фактори ризика одговорни за многе најзначајније поремећаје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овање тих фактора често мултипликативно ( исхемијска болест срца или рак плућ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 -</a:t>
            </a: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сл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следна компонента је важна за многе поремећаје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да су у  питањ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водећи узроци оболевања, неспособности и умирања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ад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генима слабе пенетрант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игенском типу насл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 фактора средине, укључујући навике и начин живота, зависи да ли ће се и када болест испољ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идемиолошким истраживањима открив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едински чиниоци, како би се превенирала бол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ервенције у геному представљ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адикално ре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ретходна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ињеница да неко у својој анамнези већ има податак о епизод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не болести или повреде чини га много рањивијим за нови атак, било да је у питању инфаркт миокарда, мождани удар, рак дојке, напад астме или покушај самоуби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ол и у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тицај пола одвија се углавном двојако: преко хормонског статуса и понашања, као социјално условљеног фено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зраст је варијабла с највећим утицајем на здрављ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зрас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трукту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морталитета има облик искошеног слова Ј или удице у развијеним деловима света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блик сличан слов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земљама у разв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br>
              <a:rPr sz="32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Остали чинио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из фактора риз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биолошки агенс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психогени стре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механичка сил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 сл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везани за једну одређену групу поремећаја здрављ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РДИОВАСКУЛАР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507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чешћи и најважнији уз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почиње у 2. деценији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ЈЕ познато зашто настаје и зашто се формирају атероматозне плоче (плак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исфункција ендоте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облитерација крвног 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2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нати су фактори кој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спешу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нак атеросклерозе у млађем узра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еросклероза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избеж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роц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5г. који немају ниједан ф.ризика око 60% коронарних артерија прекривено је атероматозним плако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3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стабилна ангина пекторис, ИМ, изненадна срчана смр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следица већег степен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уж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лумена коронарних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4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аркт миокарда, смр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 у 30-40% последица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јако сужених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ронарних крвних суд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 последиц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рупту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атеросклеротичне плоче и стварања стабилног опструктивног тром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нфлам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руптури плака (акумулација и активација инфламаторних ћ. у атеросклеротичној плочи мења њен састав и стабилност→ значај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других маркера инфлам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АКТОРИ РИЗИКА за КВБ -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Циљ лекара и болесник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561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овати на познат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ложити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"ФАКТОРИ РИЗИ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ви пут поменути у Фрамингамској студији испитивања КВБ 1961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значава факторе чије је присуство повезано са појавом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7777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ГЛАВНИ ФАКТОРИ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Остали или </a:t>
            </a:r>
            <a:r>
              <a:rPr b="0" lang="sr-CS" sz="4000" spc="-1" strike="noStrike" u="sng">
                <a:solidFill>
                  <a:srgbClr val="ff3300"/>
                </a:solidFill>
                <a:uFillTx/>
                <a:latin typeface="Arial"/>
              </a:rPr>
              <a:t>предиспонирајући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факто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Условни фактори ризика (Маркери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 риз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ГЛАВНИ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фактори ризик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 од других факто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уш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з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ијабете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зраст  и 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олошке прет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звој биотехн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11280" y="83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Остали или </a:t>
            </a:r>
            <a:r>
              <a:rPr b="0" lang="sr-CS" sz="3600" spc="-1" strike="noStrike" u="sng">
                <a:solidFill>
                  <a:srgbClr val="ff3300"/>
                </a:solidFill>
                <a:uFillTx/>
                <a:latin typeface="Arial"/>
              </a:rPr>
              <a:t>предиспонирајући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 фактори ризика за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ма доказа да је веза независ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 односу на друге ф.ризика) са КВ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ла 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алних контрацепт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сихосоцијал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Условни фактори ризика, марке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ВБ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а је ве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аузал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брин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суство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ркера инфламације или инфекције 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ипопротеина 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олог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ултифакторија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теракциј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ф.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а која им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1 ф.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да о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е које имају тек нешто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ло повишене вредности неких ф. 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удружено се појављују) имај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да оболе него особе које имају врло изражен, али само један ф.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променљив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љиви (модификујући, подложни превенцији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и о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НЕПРОМЕНЉИВИ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ризика-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Узраст и пол,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КВБ  расте са узрастом код оба п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ци чешће оболевају до 65.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ж. после менопаузе ризик од ИБС прогресивно расте, изједначава се или чак премашује ризик код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Узраст и пол,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а заштита од ИБС код пременопаузалних жен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тективна улога естр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строген утиче на процес атероскле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нижава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купни холестерол и ЛДЛ-Х, липопротеин(а), хомоцист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већава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ХДЛ-Х, метаболизам липида, вазодилат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–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ушење,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ан од главних модификујућих фактора ризика з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дишње у Европи умре 1мил. м. и 200.000 жена (350.000м. и 80.000ж.- узрок смрти је КВБ као последица пуше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рбији, од оптерећења друштва болешћу које се приписује ИБС, 18,5% је у вези са пуше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–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ушење,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0% смртних исхода који су могли бити избегнути последица су пушења, а од тога ½ настала је усле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и имају 2-3х већи ризик од настанка КВБ од непуш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, 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ост пушења и настанка КВБ зависи од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ј. нежељено дејство пушења за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личине дневно попушених цига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влачења 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жине пушачког стаж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 (јаче изражено код ж. него код 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четак пушењ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15г.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0% већи ризик пушача да умру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40 цигарета дневн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умирања од ИБ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за 200-3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пушач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који живи у заједници са пушачем или бившим пушачем, у односу на неекспони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ремена менопау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ђени на конвенционалан на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ећа пространст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ужја за масовно уништа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од катаклизмичких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ancis Fukuyama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ј историје и последњи чове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92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ућност је као узлет у неб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ављена од напрет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им пољ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 и у области народног здр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amuel Hunt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коб цивилиз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измена светског порет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96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е између народа нису идеолош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итич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економ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 култур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ивалитет суперси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мењен сукобом цивилиз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међу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уш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вредност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ибриноге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хомоцисте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стоји позитивна и независна веза у односу на друге фак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и имају виши ниво ЦРП (запаљенски процес и хиперхомоцистеинемија имају улогу у атеросклероз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икоти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главни састојак дуванског ди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васкуларн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ону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артеријск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аза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(који су у корелацији са дозом инхалираног никот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гљен моноксид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у дуванском диму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мети метаболизам васкулар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ниво куларних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ниво карбоксихемоглобин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исеонични слободни радикали оштећују ендо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7993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акљу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е убрзава настанак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тероматозних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ење значајно за појав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ромбозе на пла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станак пуш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ИБС се смањује за 50% унутар једне г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ИБС изједначава се са ризиком непушача унутар 5-1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 особе која је имала инфар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реинфаркта, изненадне смрти и укупног морталитета се смањује за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холестерол и снижене вредности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ХДЛ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-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еома ма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ЛД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адрже умерену количину холестер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лавни носилац триглице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ситнији међу липопротеин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 инверзној вези са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холесте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соке концентрације укупног холестерол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вни фактор ризика за ИБС оба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3. и 4. декади ниво холестеро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 менопау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холестерол расте и већи је у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естроге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ктивнос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рецептор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→расте ЛДЛ-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7848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ећа компонента укупног 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да уђе у зид ар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зиду артерије остаје ако се хемијски измени оксидацијо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 изазива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Снижене вредности 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</a:rPr>
              <a:t>ХДЛ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-холесте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ниж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у плазми инверзно корелирају са ризиком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током читавог живота имају веће 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остменопаузи пад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је главни фактор ризика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колошке претње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rson R. , 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о проле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 196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ет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ДТ-ја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ст о нарушен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олошкој равнотежи и опасно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ат књи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олошки покр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 зеле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ак на политичаре да нешто уч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Загађивачи органског порек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стиц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од ризикла по здрав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змене кл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 ослобађања угљендиокси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ру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ова стаклене ба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лих сагоревањем фосилних гор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та све топ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име бла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љни и животињски свет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.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ниж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1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ситнији међу липопротеи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о пролази кроз зид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рокује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иво укупног холестерола у плаз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632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,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развоја ИБС од особа са нижим вредно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ије довољан за предвиђање ризика, морају се одређивати и вредности осталих компон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5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3,4 ммл/л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5075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Х је кардиоваскуларно обољ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(ИБС, хипертрофија миокарда, срчана инсуфицијенциј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ција: Хронично обољење у којем је СК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К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аница између особа са и без 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848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је ј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ела је арбитр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ела зависи од присуства других обоље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особа са хроничним бубрежним    обољењем и протеинурујом идеални К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≤ 125/75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 нивоа 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490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еричке препоруке за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КВБ сразмеран је порасту притиска почев од 115/75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м порастом притиска за 20/1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од КВБ се удвоструч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и независна веза СКП и ДКП са оболевањем и умирањем од КВБ (посебно код младих и особа средњих год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345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АХ им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-4х чешће инфаркт миок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шћ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8х чешћ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особ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0г., СК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4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важнији је фактор ризика за КВБ од Д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690мил. одраслих у свету им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Х одговорна за 5-6% укупног ум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 Србији од оптерећења друштва болешћу које се приписује ИБС, око 21% се доводи у везу с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П расте са годинама жи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је већи код м. за око 6-1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ве до 70-79г. када са изједначава код оба п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после менопаузе ра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рмонска супституциона терапија утиче на редукцију КП у постменопау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колошке претње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стањење озонског омотач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тратос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Ризици против којих је мало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ли ни мало предузе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танак биљних и животињ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генерација земљиш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рушавање циклуса кружења азо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пора и других елемената у прир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ење резерви 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рживост животне 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задовољавање садашњих потреб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 угрожавања потреба наредних гене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ција ДКП за 5-6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оком петогодишњег периода смањуј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ризик од ИБС за око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број ИМ за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број реинфаркта и смртних исхода код  особа са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Х се често јавља код особа са позитивном породичном анамнезом (посебно ако оба родитеља имају ово обољењ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991280" cy="41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веза између КП и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а АХ имиграната (из подручја са ниским у подручје са високим уносом соли) слична преваленцији тог новог подруч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м уношењем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едукује се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чка активнос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контрол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начајно редукује 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се више снижа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дукцијом Т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его ограниченим уношењем соли  хр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дитеранска исхра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а мало пуномасних производа, снижава КП за 11,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,5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пацијената са благом хипертенз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позитивна веза између претераног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висине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олеранцијом на глукоз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/ нормогликемич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ју 2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за КП,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ог типа гојаз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високог ниво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сул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присутна код одраслих, деце и адолесце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појаву АХ утиче неповољан утицај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редин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т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ренасеље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си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иромаш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лоши социоекономски ус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ле ТТ на рођењ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већег крвног притиска у каснијем животном до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ре у лечењу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благ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хипертен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НАЧИНА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ењ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лесне мас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гојаз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ен унос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ол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г/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стрикција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(10-30г/дан за м.;10-20г/дан за ж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овна 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ре у лечењу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умерен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тешк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хипертен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НАЧИНА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ењ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лесне мас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гојаз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ен унос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стрикција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овна 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ДИКАМЕНТОЗН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изик од КВБ у хипертензивних пациј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сте прогресивно 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ом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жином трајањ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Дијабетес мелит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61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рактеристике ДМ синдр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128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онична хипергликемиј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емећај метаболизма масти, угљених хидрата и беланче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10:21:06Z</dcterms:created>
  <dc:creator>OGI</dc:creator>
  <dc:description/>
  <dc:language>en-US</dc:language>
  <cp:lastModifiedBy>Vucko</cp:lastModifiedBy>
  <dcterms:modified xsi:type="dcterms:W3CDTF">2020-09-18T15:14:50Z</dcterms:modified>
  <cp:revision>269</cp:revision>
  <dc:subject/>
  <dc:title>ФАКТОРИ КОЈИ УТИЧУ НА ЗДРАВЉЕ</dc:title>
</cp:coreProperties>
</file>